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3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  <p:custShowLst>
    <p:custShow name="Custom Show 1" id="0">
      <p:sldLst>
        <p:sld r:id="rId18"/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616C-245E-47ED-959A-31A477A5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B6D0-43E6-4163-A42B-CCCE1967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729-12DD-41C6-9F0F-A58C36E7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DF18-902C-4E59-B95D-F7C5A1ED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25A2-D997-417D-A72B-43734DBC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908B-3A3A-4C7D-988E-FE68F5B9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B22F-7905-4484-B676-72BC069A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A4C6-726E-4976-9B9E-2734C2C8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B545-379A-49C1-9403-EC43B6B5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24B9-5DD5-4B67-ACF7-513BC15E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54F6-B7CB-4EE1-87D0-58CF5CDD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087-74DF-4A6C-A18A-9DC0B7BA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0B28-EB17-4A49-8548-28E451D5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1572-ED84-47AF-B19D-5939E5D7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2B9D-D0F4-4C98-9ADD-F254A8D9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0A24-D088-4E28-BA77-A9F5D3A9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FEB0-D7C7-44D3-9A42-EEB98031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2F66-D8CD-4927-AFCE-8C6F051B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697-31DF-4CBE-881C-392CE778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691E-772B-4EA3-9A82-99CE5746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A05-0444-4E58-AADC-A431134A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348F-3DD6-4428-88DF-5B4002E4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A2A-4B00-4711-A57F-DD676928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D66-2F99-4C0E-8B33-0CBEE2BF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209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209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A754-5A97-4E59-A4FD-23959619D553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209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2092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5A2F-6DA3-4B01-8927-5EDDC676B79A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VEL2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581360" cy="34005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VELENCEI-TÓ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17880" y="207324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84560" y="222552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70560" y="161604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08840" y="321624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2240" y="336852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4799520"/>
            <a:ext cx="6781680" cy="1518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lvl="2" marL="914400" algn="ctr">
              <a:lnSpc>
                <a:spcPct val="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A vízforrás hasznosítására vonatkozó  minőségi követelményeke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valamint a szennyezés korlátozásait a nemzetközi és hazai jogszabályok írják elő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70160" y="388620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324480" y="3124080"/>
            <a:ext cx="2027520" cy="1432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727360" y="190512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362320" y="1676520"/>
          <a:ext cx="2374920" cy="1647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676520"/>
                    <a:ext cx="2374920" cy="16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7543800" y="3886200"/>
            <a:ext cx="1143000" cy="858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537240" y="1981080"/>
            <a:ext cx="184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1143000" y="2819520"/>
            <a:ext cx="14256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Összes-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és </a:t>
            </a:r>
            <a:r>
              <a:rPr b="1" lang="hu-HU" sz="3200" spc="-1" strike="noStrike" baseline="30000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            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Természetes radioaktivitá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9" name="vízterm" descr=""/>
          <p:cNvPicPr/>
          <p:nvPr/>
        </p:nvPicPr>
        <p:blipFill>
          <a:blip r:embed="rId1"/>
          <a:stretch/>
        </p:blipFill>
        <p:spPr>
          <a:xfrm>
            <a:off x="4648320" y="3886200"/>
            <a:ext cx="4149720" cy="2433600"/>
          </a:xfrm>
          <a:prstGeom prst="rect">
            <a:avLst/>
          </a:prstGeom>
          <a:ln w="0">
            <a:noFill/>
          </a:ln>
        </p:spPr>
      </p:pic>
      <p:pic>
        <p:nvPicPr>
          <p:cNvPr id="170" name="vízbk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95136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sterséges radionuklidok 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ktivitás-koncentrációja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2" name="vízmest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618660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6176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Felszíni vizek aktivitás-koncentrációi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43040" y="1981080"/>
          <a:ext cx="8172360" cy="422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17236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Összes-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és </a:t>
            </a:r>
            <a:r>
              <a:rPr b="1" lang="hu-HU" sz="3200" spc="-1" strike="noStrike" baseline="30000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            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Természetes radioaktivitás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7" name="iszapbk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402080" cy="2404800"/>
          </a:xfrm>
          <a:prstGeom prst="rect">
            <a:avLst/>
          </a:prstGeom>
          <a:ln w="0">
            <a:noFill/>
          </a:ln>
        </p:spPr>
      </p:pic>
      <p:pic>
        <p:nvPicPr>
          <p:cNvPr id="178" name="iszapter" descr=""/>
          <p:cNvPicPr/>
          <p:nvPr/>
        </p:nvPicPr>
        <p:blipFill>
          <a:blip r:embed="rId2"/>
          <a:stretch/>
        </p:blipFill>
        <p:spPr>
          <a:xfrm>
            <a:off x="4495680" y="3886200"/>
            <a:ext cx="434340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8380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sterséges radionuklidok </a:t>
            </a:r>
            <a:br>
              <a:rPr sz="2800"/>
            </a:b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aktivitás-koncentrációja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0" name="iszapmest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666936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6176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esterséges radionuklidok megoszlási hányadosa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362320" y="4191120"/>
          <a:ext cx="6076800" cy="217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191120"/>
                    <a:ext cx="6076800" cy="2171520"/>
                  </a:xfrm>
                  <a:prstGeom prst="rect">
                    <a:avLst/>
                  </a:prstGeom>
                  <a:ln w="9360">
                    <a:solidFill>
                      <a:srgbClr val="20923e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11430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1" lang="hu-HU" sz="2800" spc="-1" strike="noStrike">
                <a:solidFill>
                  <a:srgbClr val="20923e"/>
                </a:solidFill>
                <a:latin typeface="Times New Roman"/>
              </a:rPr>
              <a:t>K</a:t>
            </a:r>
            <a:r>
              <a:rPr b="1" lang="hu-HU" sz="2800" spc="-1" strike="noStrike" baseline="-25000">
                <a:solidFill>
                  <a:srgbClr val="20923e"/>
                </a:solidFill>
                <a:latin typeface="Times New Roman"/>
              </a:rPr>
              <a:t>d </a:t>
            </a:r>
            <a:r>
              <a:rPr b="1" lang="hu-HU" sz="2800" spc="-1" strike="noStrike">
                <a:solidFill>
                  <a:srgbClr val="20923e"/>
                </a:solidFill>
                <a:latin typeface="Times New Roman"/>
              </a:rPr>
              <a:t>= C</a:t>
            </a:r>
            <a:r>
              <a:rPr b="1" lang="hu-HU" sz="2800" spc="-1" strike="noStrike" baseline="-25000">
                <a:solidFill>
                  <a:srgbClr val="20923e"/>
                </a:solidFill>
                <a:latin typeface="Times New Roman"/>
              </a:rPr>
              <a:t>sz</a:t>
            </a: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20923e"/>
                </a:solidFill>
                <a:latin typeface="Times New Roman"/>
              </a:rPr>
              <a:t>(mBq/kg)</a:t>
            </a:r>
            <a:r>
              <a:rPr b="1" lang="hu-HU" sz="2800" spc="-1" strike="noStrike">
                <a:solidFill>
                  <a:srgbClr val="20923e"/>
                </a:solidFill>
                <a:latin typeface="Symbol"/>
                <a:ea typeface="Symbol"/>
              </a:rPr>
              <a:t></a:t>
            </a:r>
            <a:r>
              <a:rPr b="1" lang="hu-HU" sz="2800" spc="-1" strike="noStrike">
                <a:solidFill>
                  <a:srgbClr val="20923e"/>
                </a:solidFill>
                <a:latin typeface="Times New Roman"/>
              </a:rPr>
              <a:t>C</a:t>
            </a:r>
            <a:r>
              <a:rPr b="1" lang="hu-HU" sz="2800" spc="-1" strike="noStrike" baseline="-25000">
                <a:solidFill>
                  <a:srgbClr val="20923e"/>
                </a:solidFill>
                <a:latin typeface="Times New Roman"/>
              </a:rPr>
              <a:t>v</a:t>
            </a:r>
            <a:r>
              <a:rPr b="1" lang="hu-HU" sz="2800" spc="-1" strike="noStrike">
                <a:solidFill>
                  <a:srgbClr val="20923e"/>
                </a:solidFill>
                <a:latin typeface="Times New Roman"/>
              </a:rPr>
              <a:t> (mBq/dm</a:t>
            </a:r>
            <a:r>
              <a:rPr b="1" lang="hu-HU" sz="2800" spc="-1" strike="noStrike" baseline="30000">
                <a:solidFill>
                  <a:srgbClr val="20923e"/>
                </a:solidFill>
                <a:latin typeface="Times New Roman"/>
              </a:rPr>
              <a:t>3</a:t>
            </a:r>
            <a:r>
              <a:rPr b="1" lang="hu-HU" sz="2800" spc="-1" strike="noStrike">
                <a:solidFill>
                  <a:srgbClr val="20923e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1" lang="hu-HU" sz="20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20923e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1" lang="hu-HU" sz="20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C</a:t>
            </a:r>
            <a:r>
              <a:rPr b="1" lang="hu-HU" sz="2400" spc="-1" strike="noStrike" baseline="-25000">
                <a:solidFill>
                  <a:srgbClr val="20923e"/>
                </a:solidFill>
                <a:latin typeface="Times New Roman"/>
              </a:rPr>
              <a:t>sz</a:t>
            </a:r>
            <a:r>
              <a:rPr b="1" lang="hu-HU" sz="2400" spc="-1" strike="noStrike" baseline="-25000">
                <a:solidFill>
                  <a:srgbClr val="20923e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20923e"/>
                </a:solidFill>
                <a:latin typeface="Times New Roman"/>
              </a:rPr>
              <a:t>szediment aktivitás-koncentráció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1181160"/>
                <a:tab algn="l" pos="1771560"/>
                <a:tab algn="l" pos="2362320"/>
                <a:tab algn="l" pos="2952720"/>
                <a:tab algn="l" pos="3543480"/>
                <a:tab algn="l" pos="4133880"/>
                <a:tab algn="l" pos="4724280"/>
                <a:tab algn="l" pos="5315040"/>
                <a:tab algn="l" pos="5905440"/>
                <a:tab algn="l" pos="6496200"/>
                <a:tab algn="l" pos="7086600"/>
                <a:tab algn="l" pos="7677000"/>
                <a:tab algn="l" pos="8267760"/>
                <a:tab algn="l" pos="8858160"/>
                <a:tab algn="l" pos="9448920"/>
                <a:tab algn="l" pos="10039320"/>
                <a:tab algn="l" pos="10630080"/>
              </a:tabLst>
            </a:pPr>
            <a:r>
              <a:rPr b="1" lang="hu-HU" sz="2000" spc="-1" strike="noStrike" baseline="-25000">
                <a:solidFill>
                  <a:srgbClr val="20923e"/>
                </a:solidFill>
                <a:latin typeface="Times New Roman"/>
              </a:rPr>
              <a:t>	</a:t>
            </a:r>
            <a:r>
              <a:rPr b="1" lang="hu-HU" sz="2000" spc="-1" strike="noStrike" baseline="-25000">
                <a:solidFill>
                  <a:srgbClr val="20923e"/>
                </a:solidFill>
                <a:latin typeface="Times New Roman"/>
              </a:rPr>
              <a:t>	</a:t>
            </a:r>
            <a:r>
              <a:rPr b="1" lang="hu-HU" sz="2000" spc="-1" strike="noStrike" baseline="-25000">
                <a:solidFill>
                  <a:srgbClr val="20923e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20923e"/>
                </a:solidFill>
                <a:latin typeface="Times New Roman"/>
              </a:rPr>
              <a:t>C</a:t>
            </a:r>
            <a:r>
              <a:rPr b="1" lang="hu-HU" sz="2000" spc="-1" strike="noStrike" baseline="-25000">
                <a:solidFill>
                  <a:srgbClr val="20923e"/>
                </a:solidFill>
                <a:latin typeface="Times New Roman"/>
              </a:rPr>
              <a:t>v</a:t>
            </a:r>
            <a:r>
              <a:rPr b="1" lang="hu-HU" sz="2000" spc="-1" strike="noStrike" baseline="-25000">
                <a:solidFill>
                  <a:srgbClr val="20923e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20923e"/>
                </a:solidFill>
                <a:latin typeface="Times New Roman"/>
              </a:rPr>
              <a:t>víz aktivitás-koncentráció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Összes-</a:t>
            </a:r>
            <a:r>
              <a:rPr b="1" lang="hu-HU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és </a:t>
            </a:r>
            <a:r>
              <a:rPr b="1" lang="hu-HU" sz="3200" spc="-1" strike="noStrike" baseline="30000">
                <a:solidFill>
                  <a:srgbClr val="ffffff"/>
                </a:solidFill>
                <a:latin typeface="Times New Roman"/>
              </a:rPr>
              <a:t>40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             </a:t>
            </a:r>
            <a:br>
              <a:rPr sz="3200"/>
            </a:b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Természetes radioaktivitás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6" name="növterm" descr=""/>
          <p:cNvPicPr/>
          <p:nvPr/>
        </p:nvPicPr>
        <p:blipFill>
          <a:blip r:embed="rId1"/>
          <a:stretch/>
        </p:blipFill>
        <p:spPr>
          <a:xfrm>
            <a:off x="4648320" y="3657600"/>
            <a:ext cx="4149720" cy="2666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041560" y="243828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növök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4170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Mesterséges radionuklidok  aktivitás-koncentrációja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0" name="növmest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5469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6176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Halakban mért aktivitás-koncentrációk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676520" y="2209680"/>
          <a:ext cx="6686280" cy="29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09680"/>
                    <a:ext cx="6686280" cy="2914920"/>
                  </a:xfrm>
                  <a:prstGeom prst="rect">
                    <a:avLst/>
                  </a:prstGeom>
                  <a:ln w="9360">
                    <a:solidFill>
                      <a:srgbClr val="1e944e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6176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410000"/>
            <a:ext cx="9144000" cy="21456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14400"/>
            <a:ext cx="9144000" cy="76212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KONKLUZI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-476280" algn="just">
              <a:lnSpc>
                <a:spcPct val="90000"/>
              </a:lnSpc>
              <a:spcBef>
                <a:spcPts val="601"/>
              </a:spcBef>
              <a:buClr>
                <a:srgbClr val="20923e"/>
              </a:buClr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A vízben mért aktivitás-koncentrációk álapján és a WHO 1993-as ajánlását alapul véve a Velencei-tó </a:t>
            </a:r>
            <a:r>
              <a:rPr b="1" i="1" lang="hu-HU" sz="2400" spc="-1" strike="noStrike">
                <a:solidFill>
                  <a:srgbClr val="20923e"/>
                </a:solidFill>
                <a:latin typeface="Times New Roman"/>
              </a:rPr>
              <a:t>sugáregészségügyi szempontból</a:t>
            </a: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 </a:t>
            </a:r>
            <a:r>
              <a:rPr b="1" i="1" lang="hu-HU" sz="2400" spc="-1" strike="noStrike">
                <a:solidFill>
                  <a:srgbClr val="20923e"/>
                </a:solidFill>
                <a:latin typeface="Times New Roman"/>
              </a:rPr>
              <a:t>nem minősül ivóvíznek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-476280" algn="just">
              <a:lnSpc>
                <a:spcPct val="90000"/>
              </a:lnSpc>
              <a:spcBef>
                <a:spcPts val="601"/>
              </a:spcBef>
              <a:buClr>
                <a:srgbClr val="20923e"/>
              </a:buClr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A mesterséges radionuklidok koncentráció eloszlása a tó  területén nem egyenletes a nádasok közelében és a homokos részeken jelentős különbség mérhető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JOGI SZABÁLYOZÁ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9525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571680">
              <a:lnSpc>
                <a:spcPct val="80000"/>
              </a:lnSpc>
              <a:spcBef>
                <a:spcPts val="601"/>
              </a:spcBef>
              <a:buClr>
                <a:srgbClr val="20923e"/>
              </a:buClr>
              <a:buFont typeface="Symbol" charset="2"/>
              <a:buChar char=""/>
              <a:tabLst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Az érvényben lévő hazai jogszabályok a felszíni vizekben előforduló radioaktív anyagokra vonatkozó korlátozásokat nem tartalmazn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-571680">
              <a:spcBef>
                <a:spcPts val="601"/>
              </a:spcBef>
              <a:buClr>
                <a:srgbClr val="20923e"/>
              </a:buClr>
              <a:buFont typeface="Symbol" charset="2"/>
              <a:buChar char=""/>
              <a:tabLst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Radioaktív anyagokra vonatkozó korlátozások </a:t>
            </a: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a jogi szabályozásban  csak ivóvízre vonatkozóa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találhatók</a:t>
            </a:r>
            <a:r>
              <a:rPr b="1" lang="hu-HU" sz="2800" spc="-1" strike="noStrike">
                <a:solidFill>
                  <a:srgbClr val="20923e"/>
                </a:solidFill>
                <a:latin typeface="Times New Roman"/>
              </a:rPr>
              <a:t>.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35080"/>
                <a:tab algn="l" pos="469800"/>
                <a:tab algn="l" pos="704880"/>
                <a:tab algn="l" pos="93996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525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74680"/>
                <a:tab algn="l" pos="1409760"/>
                <a:tab algn="l" pos="1644480"/>
                <a:tab algn="l" pos="1879560"/>
                <a:tab algn="l" pos="2114640"/>
                <a:tab algn="l" pos="2349360"/>
                <a:tab algn="l" pos="2584440"/>
                <a:tab algn="l" pos="2819520"/>
                <a:tab algn="l" pos="3054240"/>
                <a:tab algn="l" pos="3289320"/>
                <a:tab algn="l" pos="3524400"/>
                <a:tab algn="l" pos="3759120"/>
                <a:tab algn="l" pos="3994200"/>
                <a:tab algn="l" pos="4229280"/>
                <a:tab algn="l" pos="4464000"/>
                <a:tab algn="l" pos="4699080"/>
                <a:tab algn="l" pos="4933800"/>
                <a:tab algn="l" pos="5168880"/>
                <a:tab algn="l" pos="5403960"/>
                <a:tab algn="l" pos="56386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81080" y="3962520"/>
          <a:ext cx="573408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62520"/>
                    <a:ext cx="5734080" cy="2514600"/>
                  </a:xfrm>
                  <a:prstGeom prst="rect">
                    <a:avLst/>
                  </a:prstGeom>
                  <a:ln w="9360">
                    <a:solidFill>
                      <a:srgbClr val="cbcbc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6176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-476280" algn="just">
              <a:lnSpc>
                <a:spcPct val="90000"/>
              </a:lnSpc>
              <a:spcBef>
                <a:spcPts val="601"/>
              </a:spcBef>
              <a:buClr>
                <a:srgbClr val="20923e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A természetes radionuklidok koncentrációi nagyobbak mint a Balatonban mért értékek ennek a víz nagyobb só koncentrációja az ok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-476280" algn="just">
              <a:lnSpc>
                <a:spcPct val="90000"/>
              </a:lnSpc>
              <a:spcBef>
                <a:spcPts val="601"/>
              </a:spcBef>
              <a:buClr>
                <a:srgbClr val="20923e"/>
              </a:buClr>
              <a:buFont typeface="Marlett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A vízben mérhető </a:t>
            </a:r>
            <a:r>
              <a:rPr b="1" lang="hu-HU" sz="2400" spc="-1" strike="noStrike" baseline="30000">
                <a:solidFill>
                  <a:srgbClr val="20923e"/>
                </a:solidFill>
                <a:latin typeface="Times New Roman"/>
              </a:rPr>
              <a:t>90</a:t>
            </a: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Sr, és </a:t>
            </a:r>
            <a:r>
              <a:rPr b="1" lang="hu-HU" sz="2400" spc="-1" strike="noStrike" baseline="30000">
                <a:solidFill>
                  <a:srgbClr val="20923e"/>
                </a:solidFill>
                <a:latin typeface="Times New Roman"/>
              </a:rPr>
              <a:t>137</a:t>
            </a: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Cs aktivitás-koncentrációkat a víz és szediment közötti megoszlási hányados határozza me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4410000"/>
            <a:ext cx="9144000" cy="21456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6176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TÁMOGATÓK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4410000"/>
            <a:ext cx="9144000" cy="21456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62120" indent="0" algn="just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-476280">
              <a:lnSpc>
                <a:spcPct val="90000"/>
              </a:lnSpc>
              <a:spcBef>
                <a:spcPts val="601"/>
              </a:spcBef>
              <a:buClr>
                <a:srgbClr val="20923e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Környezetvédelmi és Vízügyi Minisztér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-476280">
              <a:lnSpc>
                <a:spcPct val="90000"/>
              </a:lnSpc>
              <a:spcBef>
                <a:spcPts val="601"/>
              </a:spcBef>
              <a:buClr>
                <a:srgbClr val="20923e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MOHOSZ velencei tavi kirendeltsé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-476280" algn="just">
              <a:lnSpc>
                <a:spcPct val="90000"/>
              </a:lnSpc>
              <a:spcBef>
                <a:spcPts val="601"/>
              </a:spcBef>
              <a:buClr>
                <a:srgbClr val="20923e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Közép-Dunántúli Környezetvédelmi Felügyelősé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6212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CÉLKITŰZÉ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76312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2" marL="746640" indent="-373320">
              <a:lnSpc>
                <a:spcPct val="80000"/>
              </a:lnSpc>
              <a:spcBef>
                <a:spcPts val="700"/>
              </a:spcBef>
              <a:buClr>
                <a:srgbClr val="20923e"/>
              </a:buClr>
              <a:buFont typeface="Symbol" charset="2"/>
              <a:buChar char="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A természetes és mesterséges eredetű radionuklidok aktivitás-koncentrációinak meghatározás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6640" indent="-373320">
              <a:lnSpc>
                <a:spcPct val="80000"/>
              </a:lnSpc>
              <a:spcBef>
                <a:spcPts val="700"/>
              </a:spcBef>
              <a:buClr>
                <a:srgbClr val="20923e"/>
              </a:buClr>
              <a:buFont typeface="Symbol" charset="2"/>
              <a:buChar char="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Adatbázis létrehozás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20923e"/>
                </a:solidFill>
                <a:latin typeface="Times New Roman"/>
              </a:rPr>
              <a:t>* 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 szennyeződés gyanúja esetén a közvélemé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6640" indent="0">
              <a:lnSpc>
                <a:spcPct val="80000"/>
              </a:lnSpc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és az idegenforgalomban érdekeltek hiteles 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tájékoztatása érdekében,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20923e"/>
                </a:solidFill>
                <a:latin typeface="Times New Roman"/>
              </a:rPr>
              <a:t>*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a további kutatásokhoz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66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6640" indent="-373320">
              <a:lnSpc>
                <a:spcPct val="80000"/>
              </a:lnSpc>
              <a:spcBef>
                <a:spcPts val="700"/>
              </a:spcBef>
              <a:buClr>
                <a:srgbClr val="20923e"/>
              </a:buClr>
              <a:buFont typeface="Symbol" charset="2"/>
              <a:buChar char=""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Megoszlási hányadosok (K</a:t>
            </a:r>
            <a:r>
              <a:rPr b="0" lang="hu-HU" sz="2800" spc="-1" strike="noStrike" baseline="-25000">
                <a:solidFill>
                  <a:srgbClr val="20923e"/>
                </a:solidFill>
                <a:latin typeface="Times New Roman"/>
              </a:rPr>
              <a:t>d</a:t>
            </a:r>
            <a:r>
              <a:rPr b="0" lang="hu-HU" sz="2800" spc="-1" strike="noStrike">
                <a:solidFill>
                  <a:srgbClr val="20923e"/>
                </a:solidFill>
                <a:latin typeface="Times New Roman"/>
              </a:rPr>
              <a:t>) számítása víz és szediment közö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4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MINTAVÉTELI HELYEK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03680" y="374976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Vel23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505560" cy="45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INTAVÉTEL                        VIZSGÁLATI IRÁNYOK</a:t>
            </a:r>
            <a:br>
              <a:rPr sz="2400"/>
            </a:br>
            <a:endParaRPr b="0" lang="en-US" sz="2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22840" y="413064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4267440" cy="2971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380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20923e"/>
                </a:solidFill>
                <a:latin typeface="Times New Roman"/>
              </a:rPr>
              <a:t>A Velencei-tó teljes ökológiai rendszerének mintázá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>
              <a:spcBef>
                <a:spcPts val="499"/>
              </a:spcBef>
              <a:buClr>
                <a:srgbClr val="20923e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Minták: víz, szediment, nád, 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hal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>
              <a:spcBef>
                <a:spcPts val="499"/>
              </a:spcBef>
              <a:buClr>
                <a:srgbClr val="20923e"/>
              </a:buClr>
              <a:buFont typeface="Symbol" charset="2"/>
              <a:buChar char="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A mintázás három vegetációs  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időszakban történt (nyár, ősz, 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tavas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380880" indent="0">
              <a:spcBef>
                <a:spcPts val="499"/>
              </a:spcBef>
              <a:buNone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67080" y="2209680"/>
            <a:ext cx="4648320" cy="3886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hu-HU" sz="2000" spc="-1" strike="noStrike">
                <a:solidFill>
                  <a:srgbClr val="20923e"/>
                </a:solidFill>
                <a:latin typeface="Times New Roman"/>
              </a:rPr>
              <a:t>Monitorozá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8400" indent="-666720">
              <a:lnSpc>
                <a:spcPct val="105000"/>
              </a:lnSpc>
              <a:spcBef>
                <a:spcPts val="499"/>
              </a:spcBef>
              <a:buClr>
                <a:srgbClr val="20923e"/>
              </a:buClr>
              <a:buSzPct val="150000"/>
              <a:buFont typeface="Times New Roman"/>
              <a:buChar char="•"/>
              <a:tabLst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összes-</a:t>
            </a:r>
            <a:r>
              <a:rPr b="0" lang="hu-HU" sz="2000" spc="-1" strike="noStrike">
                <a:solidFill>
                  <a:srgbClr val="20923e"/>
                </a:solidFill>
                <a:latin typeface="Symbol"/>
                <a:ea typeface="Symbol"/>
              </a:rPr>
              <a:t>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 aktivitás-koncentráci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hu-HU" sz="2000" spc="-1" strike="noStrike">
                <a:solidFill>
                  <a:srgbClr val="20923e"/>
                </a:solidFill>
                <a:latin typeface="Times New Roman"/>
              </a:rPr>
              <a:t>Természetes eredetű radionuklid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8400" indent="-666720">
              <a:lnSpc>
                <a:spcPct val="105000"/>
              </a:lnSpc>
              <a:spcBef>
                <a:spcPts val="499"/>
              </a:spcBef>
              <a:buClr>
                <a:srgbClr val="20923e"/>
              </a:buClr>
              <a:buFont typeface="Symbol" charset="2"/>
              <a:buChar char=""/>
              <a:tabLst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hu-HU" sz="2000" spc="-1" strike="noStrike" baseline="30000">
                <a:solidFill>
                  <a:srgbClr val="20923e"/>
                </a:solidFill>
                <a:latin typeface="Times New Roman"/>
              </a:rPr>
              <a:t>232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Th-bomlási sorból az </a:t>
            </a:r>
            <a:r>
              <a:rPr b="0" lang="hu-HU" sz="2000" spc="-1" strike="noStrike" baseline="30000">
                <a:solidFill>
                  <a:srgbClr val="20923e"/>
                </a:solidFill>
                <a:latin typeface="Times New Roman"/>
              </a:rPr>
              <a:t>228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Ac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8400" indent="-666720">
              <a:lnSpc>
                <a:spcPct val="105000"/>
              </a:lnSpc>
              <a:spcBef>
                <a:spcPts val="499"/>
              </a:spcBef>
              <a:buClr>
                <a:srgbClr val="20923e"/>
              </a:buClr>
              <a:buFont typeface="Symbol" charset="2"/>
              <a:buChar char=""/>
              <a:tabLst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hu-HU" sz="2000" spc="-1" strike="noStrike" baseline="30000">
                <a:solidFill>
                  <a:srgbClr val="20923e"/>
                </a:solidFill>
                <a:latin typeface="Times New Roman"/>
              </a:rPr>
              <a:t>238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U bomlási sorból </a:t>
            </a:r>
            <a:r>
              <a:rPr b="0" lang="hu-HU" sz="2000" spc="-1" strike="noStrike" baseline="30000">
                <a:solidFill>
                  <a:srgbClr val="20923e"/>
                </a:solidFill>
                <a:latin typeface="Times New Roman"/>
              </a:rPr>
              <a:t>234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Th és </a:t>
            </a:r>
            <a:r>
              <a:rPr b="0" lang="hu-HU" sz="2000" spc="-1" strike="noStrike" baseline="30000">
                <a:solidFill>
                  <a:srgbClr val="20923e"/>
                </a:solidFill>
                <a:latin typeface="Times New Roman"/>
              </a:rPr>
              <a:t>226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Ra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8400" indent="-666720">
              <a:lnSpc>
                <a:spcPct val="105000"/>
              </a:lnSpc>
              <a:spcBef>
                <a:spcPts val="499"/>
              </a:spcBef>
              <a:buClr>
                <a:srgbClr val="20923e"/>
              </a:buClr>
              <a:buFont typeface="Symbol" charset="2"/>
              <a:buChar char=""/>
              <a:tabLst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primordiális </a:t>
            </a:r>
            <a:r>
              <a:rPr b="0" lang="hu-HU" sz="2000" spc="-1" strike="noStrike" baseline="30000">
                <a:solidFill>
                  <a:srgbClr val="20923e"/>
                </a:solidFill>
                <a:latin typeface="Times New Roman"/>
              </a:rPr>
              <a:t>40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K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499"/>
              </a:spcBef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hu-HU" sz="2000" spc="-1" strike="noStrike">
                <a:solidFill>
                  <a:srgbClr val="20923e"/>
                </a:solidFill>
                <a:latin typeface="Times New Roman"/>
              </a:rPr>
              <a:t>Mesterséges radionuklid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8400" indent="-666720">
              <a:lnSpc>
                <a:spcPct val="105000"/>
              </a:lnSpc>
              <a:spcBef>
                <a:spcPts val="499"/>
              </a:spcBef>
              <a:buClr>
                <a:srgbClr val="20923e"/>
              </a:buClr>
              <a:buFont typeface="Symbol" charset="2"/>
              <a:buChar char=""/>
              <a:tabLst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hu-HU" sz="2000" spc="-1" strike="noStrike" baseline="30000">
                <a:solidFill>
                  <a:srgbClr val="20923e"/>
                </a:solidFill>
                <a:latin typeface="Times New Roman"/>
              </a:rPr>
              <a:t>3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H vízben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238400" indent="-666720">
              <a:lnSpc>
                <a:spcPct val="105000"/>
              </a:lnSpc>
              <a:spcBef>
                <a:spcPts val="499"/>
              </a:spcBef>
              <a:buClr>
                <a:srgbClr val="20923e"/>
              </a:buClr>
              <a:buFont typeface="Symbol" charset="2"/>
              <a:buChar char=""/>
              <a:tabLst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  <a:tab algn="l" pos="5029200"/>
                <a:tab algn="l" pos="5257800"/>
                <a:tab algn="l" pos="5486400"/>
                <a:tab algn="l" pos="5715000"/>
              </a:tabLst>
            </a:pPr>
            <a:r>
              <a:rPr b="0" lang="hu-HU" sz="2000" spc="-1" strike="noStrike" baseline="30000">
                <a:solidFill>
                  <a:srgbClr val="20923e"/>
                </a:solidFill>
                <a:latin typeface="Times New Roman"/>
              </a:rPr>
              <a:t>90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Sr és </a:t>
            </a:r>
            <a:r>
              <a:rPr b="0" lang="hu-HU" sz="2000" spc="-1" strike="noStrike" baseline="30000">
                <a:solidFill>
                  <a:srgbClr val="20923e"/>
                </a:solidFill>
                <a:latin typeface="Times New Roman"/>
              </a:rPr>
              <a:t>137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C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ÓDSZER</a:t>
            </a:r>
            <a:br>
              <a:rPr sz="3200"/>
            </a:b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22840" y="413064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8001000" cy="441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3808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20923e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baseline="30000">
                <a:solidFill>
                  <a:srgbClr val="20923e"/>
                </a:solidFill>
                <a:latin typeface="Times New Roman"/>
              </a:rPr>
              <a:t>   </a:t>
            </a:r>
            <a:r>
              <a:rPr b="1" lang="hu-HU" sz="2400" spc="-1" strike="noStrike" baseline="30000">
                <a:solidFill>
                  <a:srgbClr val="20923e"/>
                </a:solidFill>
                <a:latin typeface="Times New Roman"/>
              </a:rPr>
              <a:t>137</a:t>
            </a: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Cs és természetes radionuklidok meghatározása:</a:t>
            </a:r>
            <a:r>
              <a:rPr b="1" lang="hu-HU" sz="2800" spc="-1" strike="noStrike">
                <a:solidFill>
                  <a:srgbClr val="20923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i="1" lang="hu-HU" sz="2000" spc="-1" strike="noStrike">
                <a:solidFill>
                  <a:srgbClr val="20923e"/>
                </a:solidFill>
                <a:latin typeface="Times New Roman"/>
              </a:rPr>
              <a:t>fizikai előkészítés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 (bepárlás, szárítás, homogenizálás, 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hamvasztás) 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után,  gamma-spektrometriás méréssel </a:t>
            </a:r>
            <a:r>
              <a:rPr b="0" i="1" lang="hu-HU" sz="2000" spc="-1" strike="noStrike">
                <a:solidFill>
                  <a:srgbClr val="20923e"/>
                </a:solidFill>
                <a:latin typeface="Times New Roman"/>
              </a:rPr>
              <a:t>HpGe,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 detektorral</a:t>
            </a:r>
            <a:r>
              <a:rPr b="0" lang="hu-HU" sz="2400" spc="-1" strike="noStrike">
                <a:solidFill>
                  <a:srgbClr val="20923e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20923e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baseline="30000">
                <a:solidFill>
                  <a:srgbClr val="20923e"/>
                </a:solidFill>
                <a:latin typeface="Times New Roman"/>
              </a:rPr>
              <a:t>   </a:t>
            </a:r>
            <a:r>
              <a:rPr b="1" lang="hu-HU" sz="2400" spc="-1" strike="noStrike" baseline="30000">
                <a:solidFill>
                  <a:srgbClr val="20923e"/>
                </a:solidFill>
                <a:latin typeface="Times New Roman"/>
              </a:rPr>
              <a:t>40</a:t>
            </a: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K meghatározás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stabil kálium merése alapján atomabszorpciós módszerr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20923e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 baseline="30000">
                <a:solidFill>
                  <a:srgbClr val="20923e"/>
                </a:solidFill>
                <a:latin typeface="Times New Roman"/>
              </a:rPr>
              <a:t>   </a:t>
            </a:r>
            <a:r>
              <a:rPr b="1" lang="hu-HU" sz="2400" spc="-1" strike="noStrike" baseline="30000">
                <a:solidFill>
                  <a:srgbClr val="20923e"/>
                </a:solidFill>
                <a:latin typeface="Times New Roman"/>
              </a:rPr>
              <a:t>90</a:t>
            </a: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Sr (</a:t>
            </a:r>
            <a:r>
              <a:rPr b="1" lang="hu-HU" sz="2400" spc="-1" strike="noStrike" baseline="30000">
                <a:solidFill>
                  <a:srgbClr val="20923e"/>
                </a:solidFill>
                <a:latin typeface="Times New Roman"/>
              </a:rPr>
              <a:t>90</a:t>
            </a: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Y) meghatározás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 </a:t>
            </a:r>
            <a:r>
              <a:rPr b="0" lang="hu-HU" sz="2000" spc="-1" strike="noStrike" baseline="30000">
                <a:solidFill>
                  <a:srgbClr val="20923e"/>
                </a:solidFill>
                <a:latin typeface="Times New Roman"/>
              </a:rPr>
              <a:t>90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Y kémiai elválasztása után (TBP-s extrakció) az </a:t>
            </a:r>
            <a:r>
              <a:rPr b="0" lang="hu-HU" sz="2000" spc="-1" strike="noStrike" baseline="30000">
                <a:solidFill>
                  <a:srgbClr val="20923e"/>
                </a:solidFill>
                <a:latin typeface="Times New Roman"/>
              </a:rPr>
              <a:t>90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Y 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aktivitásának mérésével alacsonyhátterű béta 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mérőhelye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20923e"/>
              </a:buClr>
              <a:buSzPct val="1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20923e"/>
                </a:solidFill>
                <a:latin typeface="Times New Roman"/>
              </a:rPr>
              <a:t>   </a:t>
            </a:r>
            <a:r>
              <a:rPr b="1" lang="hu-HU" sz="2400" spc="-1" strike="noStrike">
                <a:solidFill>
                  <a:srgbClr val="20923e"/>
                </a:solidFill>
                <a:latin typeface="Times New Roman"/>
              </a:rPr>
              <a:t>Trícium meghatározá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e</a:t>
            </a:r>
            <a:r>
              <a:rPr b="0" i="1" lang="hu-HU" sz="2000" spc="-1" strike="noStrike">
                <a:solidFill>
                  <a:srgbClr val="20923e"/>
                </a:solidFill>
                <a:latin typeface="Times New Roman"/>
              </a:rPr>
              <a:t>lektrolitikus dúsítás után </a:t>
            </a:r>
            <a:r>
              <a:rPr b="0" lang="hu-HU" sz="2000" spc="-1" strike="noStrike">
                <a:solidFill>
                  <a:srgbClr val="20923e"/>
                </a:solidFill>
                <a:latin typeface="Times New Roman"/>
              </a:rPr>
              <a:t>folyadékszcintillációs méréss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6176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76272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90440"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0923e"/>
                </a:solidFill>
                <a:latin typeface="Times New Roman"/>
              </a:rPr>
              <a:t>A víz és a szediment minták eredményeit bemutató ábrákon a három vegetációs időszakban vett minta mérési eredményeinek átlagértékeit és az átlag szórását tüntettük fel a különböző mintavételi helyeken.</a:t>
            </a:r>
            <a:r>
              <a:rPr b="0" lang="hu-HU" sz="1800" spc="-1" strike="noStrike">
                <a:solidFill>
                  <a:srgbClr val="20923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523880"/>
            <a:ext cx="9144000" cy="641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1e944e"/>
                </a:solidFill>
                <a:latin typeface="Times New Roman"/>
              </a:rPr>
              <a:t>VÍZ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181480"/>
            <a:ext cx="9144000" cy="21456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286000"/>
            <a:ext cx="9144000" cy="21420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6176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fffff"/>
                </a:solidFill>
                <a:latin typeface="Times New Roman"/>
              </a:rPr>
              <a:t>EREDMÉNY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523880"/>
            <a:ext cx="9144000" cy="641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1e944e"/>
                </a:solidFill>
                <a:latin typeface="Times New Roman"/>
              </a:rPr>
              <a:t>SZEDI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286000"/>
            <a:ext cx="9144000" cy="21420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76176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u-HU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3885120"/>
            <a:ext cx="82296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20923e"/>
                </a:solidFill>
                <a:latin typeface="Times New Roman"/>
              </a:rPr>
              <a:t>A nádban mért eredményeket bemutató ábrákon a tíz mintavételi helyen vett növényminta mérési eredményeinek átlagértékeit és az átlag szórását tüntettük fel a különböző vegetációs időszakban.</a:t>
            </a:r>
            <a:r>
              <a:rPr b="0" lang="hu-HU" sz="1800" spc="-1" strike="noStrike">
                <a:solidFill>
                  <a:srgbClr val="20923e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523880"/>
            <a:ext cx="9144000" cy="641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600" spc="-1" strike="noStrike">
                <a:solidFill>
                  <a:srgbClr val="1e944e"/>
                </a:solidFill>
                <a:latin typeface="Times New Roman"/>
              </a:rPr>
              <a:t>NÁD, HALA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181480"/>
            <a:ext cx="9144000" cy="21456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32080" y="4191120"/>
            <a:ext cx="183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286000"/>
            <a:ext cx="9144000" cy="214200"/>
          </a:xfrm>
          <a:prstGeom prst="rect">
            <a:avLst/>
          </a:prstGeom>
          <a:solidFill>
            <a:srgbClr val="1e9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4:03:40Z</dcterms:created>
  <dc:creator>Szabó Gyula</dc:creator>
  <dc:description/>
  <dc:language>en-US</dc:language>
  <cp:lastModifiedBy>OSSKI</cp:lastModifiedBy>
  <cp:lastPrinted>2004-04-19T11:02:25Z</cp:lastPrinted>
  <dcterms:modified xsi:type="dcterms:W3CDTF">2004-05-21T06:47:45Z</dcterms:modified>
  <cp:revision>133</cp:revision>
  <dc:subject/>
  <dc:title>No Slide Title</dc:title>
</cp:coreProperties>
</file>