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Custom Show 1" id="0">
      <p:sldLst>
        <p:sld r:id="rId4"/>
        <p:sld r:id="rId8"/>
        <p:sld r:id="rId16"/>
        <p:sld r:id="rId12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53A-A72A-4850-950F-2F53B78D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2DA-4B63-4A16-B518-EA351537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022-0402-430B-885B-B8D67D98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9AB-2DBD-453A-AA51-20E3DB1B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0B31-C280-480C-9104-E2A56AF5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6697-8BCD-4D74-B7E2-0726AC92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21AB-1B3E-4D18-A69F-8992A3D3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6CB4-F53F-4F55-8687-53E3FDA7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2801-F6D1-4918-92C4-81BC6815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67D8-AC78-4776-ADFA-C87C26BB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31FA-09C1-4846-AF65-598A0C93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0F6-F28D-4D11-867D-67464A31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7066-4A4D-48B7-9DC3-6264C3DE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E0A6-438F-42D2-9DDC-24CB9AD4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916D-BB49-469C-A213-EEF3DB48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82C8-0BBA-4448-9CF1-917A019D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BF0C-4733-4FF0-AA1C-8F82DCCB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B33-AE55-4324-82C9-B971DE42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67F-AE11-4D38-A8B4-C8A6AB66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9F5-D673-4B6F-B1C4-950BC719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246-BB76-4496-892A-BABF13D5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3223-3990-401A-917D-E9C1684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C09-F501-429D-B36C-256F3D19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AA4-F250-4BF1-BF95-E988DA12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D9C7-9DBA-4DA7-B3A5-8E1A1A813DD9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5B88-0805-43BF-89B4-9B883063AD0C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AKE BALATO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6518160" cy="365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17880" y="207324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152388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184560" y="222552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705720" y="2666880"/>
            <a:ext cx="2133360" cy="1379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470560" y="161604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800600" y="1828800"/>
            <a:ext cx="2743200" cy="135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08840" y="321624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286000" y="2438280"/>
            <a:ext cx="2243160" cy="1451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2240" y="336852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3352680" y="1752480"/>
            <a:ext cx="1920960" cy="1084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4563000"/>
            <a:ext cx="6782040" cy="18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lvl="2" marL="380880"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Lake Balaton is one Hungary’s greatest natural assest. Her importance is based on the different use of the lake and surroundings, namely recreation, tourism, fisheries, wine production, industrial water sou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ctivity of gross-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hu-HU" sz="2800" spc="-1" strike="noStrike" baseline="30000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K in sediment sample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szedöb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7263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atural radioactivity in sediment samples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szedter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262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ctivity concentration of the artificial radionuclides in sediment sampl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szedmest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262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Balatonian reed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nadöb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4120920" cy="2443320"/>
          </a:xfrm>
          <a:prstGeom prst="rect">
            <a:avLst/>
          </a:prstGeom>
          <a:ln w="0">
            <a:noFill/>
          </a:ln>
        </p:spPr>
      </p:pic>
      <p:pic>
        <p:nvPicPr>
          <p:cNvPr id="166" name="nadter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706920" cy="2475000"/>
          </a:xfrm>
          <a:prstGeom prst="rect">
            <a:avLst/>
          </a:prstGeom>
          <a:ln w="0">
            <a:noFill/>
          </a:ln>
        </p:spPr>
      </p:pic>
      <p:pic>
        <p:nvPicPr>
          <p:cNvPr id="167" name="nadmest" descr=""/>
          <p:cNvPicPr/>
          <p:nvPr/>
        </p:nvPicPr>
        <p:blipFill>
          <a:blip r:embed="rId3"/>
          <a:stretch/>
        </p:blipFill>
        <p:spPr>
          <a:xfrm>
            <a:off x="4952880" y="4341960"/>
            <a:ext cx="37324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ctivity concentration in fish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76520" y="1981080"/>
          <a:ext cx="6286320" cy="436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28632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47628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According to the WHO Guidelines and Hungarian regulation the water of Lake Balaton fills requirements for drinking-water from the radiohygiene point of vie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47628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The artifical radionuclides are dispersed uniformly in Lake Balaton’s eco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47628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The natural radioactivity concentration in samples orriginated from Hévíz are 15-20 times higher than in samples from Lake Balat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RECOMMENDATIO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9525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5716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Font typeface="Symbol" charset="2"/>
              <a:buChar char=""/>
              <a:tabLst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There is no international and Hungarian regulation for radioactivity concentration in surface wat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571680">
              <a:lnSpc>
                <a:spcPct val="80000"/>
              </a:lnSpc>
              <a:spcBef>
                <a:spcPts val="700"/>
              </a:spcBef>
              <a:buClr>
                <a:srgbClr val="330099"/>
              </a:buClr>
              <a:buFont typeface="Symbol" charset="2"/>
              <a:buChar char=""/>
              <a:tabLst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1" lang="hu-HU" sz="2400" spc="-1" strike="noStrike">
                <a:solidFill>
                  <a:srgbClr val="330099"/>
                </a:solidFill>
                <a:latin typeface="Times New Roman"/>
              </a:rPr>
              <a:t>There are some WHO (1993) recommendations and Hungarian (2001) regulations for radioactivity in drinking-water: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81080" y="3962520"/>
          <a:ext cx="5734080" cy="302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62520"/>
                    <a:ext cx="5734080" cy="3028680"/>
                  </a:xfrm>
                  <a:prstGeom prst="rect">
                    <a:avLst/>
                  </a:prstGeom>
                  <a:ln w="9360">
                    <a:solidFill>
                      <a:srgbClr val="cbcbc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I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952560" indent="-380880">
              <a:lnSpc>
                <a:spcPct val="80000"/>
              </a:lnSpc>
              <a:spcBef>
                <a:spcPts val="700"/>
              </a:spcBef>
              <a:buClr>
                <a:srgbClr val="33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Determination the activity concentration of natural and artificial radionuclides in Lake Balat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380880">
              <a:lnSpc>
                <a:spcPct val="80000"/>
              </a:lnSpc>
              <a:spcBef>
                <a:spcPts val="700"/>
              </a:spcBef>
              <a:buClr>
                <a:srgbClr val="33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Development a data-base on Lake Balaton for further research and giving trustworthy information to the public about the contamination of the lake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380880">
              <a:lnSpc>
                <a:spcPct val="80000"/>
              </a:lnSpc>
              <a:spcBef>
                <a:spcPts val="700"/>
              </a:spcBef>
              <a:buClr>
                <a:srgbClr val="33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0099"/>
                </a:solidFill>
                <a:latin typeface="Times New Roman"/>
              </a:rPr>
              <a:t>Finding bio-indicator species for monitoring the radioactive contamination of Lake Bala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SAMPLING SIT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14400" y="1828800"/>
          <a:ext cx="769608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AMPLE TYPE                NUCLIDES MEASURED</a:t>
            </a: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22840" y="413064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2209680"/>
            <a:ext cx="4648320" cy="43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hu-HU" sz="2000" spc="-1" strike="noStrike">
                <a:solidFill>
                  <a:srgbClr val="330099"/>
                </a:solidFill>
                <a:latin typeface="Times New Roman"/>
              </a:rPr>
              <a:t>For monit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330099"/>
              </a:buClr>
              <a:buSzPct val="150000"/>
              <a:buFont typeface="Times New Roman"/>
              <a:buChar char="•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gross-</a:t>
            </a:r>
            <a:r>
              <a:rPr b="0" lang="hu-HU" sz="2000" spc="-1" strike="noStrike">
                <a:solidFill>
                  <a:srgbClr val="330099"/>
                </a:solidFill>
                <a:latin typeface="Symbol"/>
                <a:ea typeface="Symbol"/>
              </a:rPr>
              <a:t>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 activity-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hu-HU" sz="2000" spc="-1" strike="noStrike">
                <a:solidFill>
                  <a:srgbClr val="330099"/>
                </a:solidFill>
                <a:latin typeface="Times New Roman"/>
              </a:rPr>
              <a:t>Natural radionucl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330099"/>
              </a:buClr>
              <a:buFont typeface="Symbol" charset="2"/>
              <a:buChar char="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hu-HU" sz="2000" spc="-1" strike="noStrike" baseline="30000">
                <a:solidFill>
                  <a:srgbClr val="330099"/>
                </a:solidFill>
                <a:latin typeface="Times New Roman"/>
              </a:rPr>
              <a:t>228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Ac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330099"/>
              </a:buClr>
              <a:buFont typeface="Symbol" charset="2"/>
              <a:buChar char="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hu-HU" sz="2000" spc="-1" strike="noStrike" baseline="30000">
                <a:solidFill>
                  <a:srgbClr val="330099"/>
                </a:solidFill>
                <a:latin typeface="Times New Roman"/>
              </a:rPr>
              <a:t>234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Th és </a:t>
            </a:r>
            <a:r>
              <a:rPr b="0" lang="hu-HU" sz="2000" spc="-1" strike="noStrike" baseline="30000">
                <a:solidFill>
                  <a:srgbClr val="330099"/>
                </a:solidFill>
                <a:latin typeface="Times New Roman"/>
              </a:rPr>
              <a:t>226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Ra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330099"/>
              </a:buClr>
              <a:buFont typeface="Symbol" charset="2"/>
              <a:buChar char="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 </a:t>
            </a:r>
            <a:r>
              <a:rPr b="0" lang="hu-HU" sz="2000" spc="-1" strike="noStrike" baseline="30000">
                <a:solidFill>
                  <a:srgbClr val="330099"/>
                </a:solidFill>
                <a:latin typeface="Times New Roman"/>
              </a:rPr>
              <a:t>40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K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hu-HU" sz="2000" spc="-1" strike="noStrike">
                <a:solidFill>
                  <a:srgbClr val="330099"/>
                </a:solidFill>
                <a:latin typeface="Times New Roman"/>
              </a:rPr>
              <a:t>Artificial radionucl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330099"/>
              </a:buClr>
              <a:buFont typeface="Symbol" charset="2"/>
              <a:buChar char="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 baseline="30000">
                <a:solidFill>
                  <a:srgbClr val="330099"/>
                </a:solidFill>
                <a:latin typeface="Times New Roman"/>
              </a:rPr>
              <a:t>3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H in water samp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330099"/>
              </a:buClr>
              <a:buFont typeface="Symbol" charset="2"/>
              <a:buChar char="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 baseline="30000">
                <a:solidFill>
                  <a:srgbClr val="330099"/>
                </a:solidFill>
                <a:latin typeface="Times New Roman"/>
              </a:rPr>
              <a:t>90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Sr és </a:t>
            </a:r>
            <a:r>
              <a:rPr b="0" lang="hu-HU" sz="2000" spc="-1" strike="noStrike" baseline="30000">
                <a:solidFill>
                  <a:srgbClr val="330099"/>
                </a:solidFill>
                <a:latin typeface="Times New Roman"/>
              </a:rPr>
              <a:t>137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14800" cy="3124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380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0099"/>
                </a:solidFill>
                <a:latin typeface="Times New Roman"/>
              </a:rPr>
              <a:t>From the ecological system of Lake Balat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spcBef>
                <a:spcPts val="499"/>
              </a:spcBef>
              <a:buClr>
                <a:srgbClr val="33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  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wa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spcBef>
                <a:spcPts val="499"/>
              </a:spcBef>
              <a:buClr>
                <a:srgbClr val="33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  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sedi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spcBef>
                <a:spcPts val="499"/>
              </a:spcBef>
              <a:buClr>
                <a:srgbClr val="33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  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plant (reed, sedge etc.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spcBef>
                <a:spcPts val="499"/>
              </a:spcBef>
              <a:buClr>
                <a:srgbClr val="33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  </a:t>
            </a:r>
            <a:r>
              <a:rPr b="0" lang="hu-HU" sz="2000" spc="-1" strike="noStrike">
                <a:solidFill>
                  <a:srgbClr val="330099"/>
                </a:solidFill>
                <a:latin typeface="Times New Roman"/>
              </a:rPr>
              <a:t>fish (predator, plant-ea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oncentration of gross-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hu-HU" sz="3200" spc="-1" strike="noStrike" baseline="30000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  in water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9" name="vízöb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72658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Natural radioactivity in water sampl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3520" y="3198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vízter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842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ctivity concentration of the artificial radionuclides in water sampl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4" name="vízmest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51032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ctivity concentration of some surface wat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14400" y="1752480"/>
          <a:ext cx="81723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81723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4:03:40Z</dcterms:created>
  <dc:creator>Szabó Gyula</dc:creator>
  <dc:description/>
  <dc:language>en-US</dc:language>
  <cp:lastModifiedBy>Szabó Gyula</cp:lastModifiedBy>
  <cp:lastPrinted>2003-04-29T12:07:52Z</cp:lastPrinted>
  <dcterms:modified xsi:type="dcterms:W3CDTF">2003-09-02T12:42:07Z</dcterms:modified>
  <cp:revision>120</cp:revision>
  <dc:subject/>
  <dc:title>No Slide Title</dc:title>
</cp:coreProperties>
</file>