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  <p:custShowLst>
    <p:custShow name="Custom Show 1" id="0">
      <p:sldLst>
        <p:sld r:id="rId4"/>
        <p:sld r:id="rId5"/>
        <p:sld r:id="rId9"/>
        <p:sld r:id="rId10"/>
        <p:sld r:id="rId11"/>
        <p:sld r:id="rId20"/>
        <p:sld r:id="rId19"/>
        <p:sld r:id="rId15"/>
        <p:sld r:id="rId21"/>
        <p:sld r:id="rId23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A6E-199C-4DB6-A798-DD3D66D3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CCA-6072-4161-A31D-C9B71B1B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B7A-05DD-4087-9A74-24BC2B25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6F0-E3F3-496D-90B6-AA7C11A1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5F53-31AA-4939-84BF-98227D65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7372-D606-455D-8578-8AFE2DAB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692E-04C8-471B-965D-3F54C5B9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55FF-EB0B-4F10-882F-C65A129C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3876-58FB-4920-8D82-64B59CC1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3CDC-9EDC-4246-A9E4-B020C02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7B0B-EF67-4DDE-9019-1BAA155E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404-3EE4-41AE-8E41-663D5837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C90E-9BA6-4326-B81A-9CCEF77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3AE2-A4C9-4FD4-B694-47828860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8C06-B582-4C2D-A73A-685668EC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F784-A0CE-4493-8536-9A61089D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5F2D-DE37-476C-8199-89823F1C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4ED-F57D-4AF5-837B-E57F49BE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FA5-4D79-488B-895A-93D13CBA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BDD-5FE9-42F4-B8F5-CE142E68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926-05ED-44F9-9D68-E9F30FEF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B01-D008-422B-945C-7B113E08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CA3-7BEA-43C8-9C23-00257FB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E5D-07A4-4822-9AF5-C9DFA2C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643D-597F-4329-888B-833DF47484E3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3B26-4E2F-40DF-BFB9-A2B399355512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A BALATON TERMÉSZETES ÉS MESTERSÉGES EREDETŰ RADIOAKTIVITÁSÁNAK FELMÉRÉSE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Bokori Edit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 Guczi Judit, Capote Antonio, Kurtács Endre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Szabó Gyula és Ugron Ágo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Arial"/>
              </a:rPr>
              <a:t>"Fodor József" Országos Közegészségügyi Közpo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Arial"/>
              </a:rPr>
              <a:t>Országos "Frédéric Joliot-Curie" Sugárbiológiai és Sugáregészségügyi Kutató Intézet, 1221. Budapest Anna u.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330099"/>
                </a:solidFill>
                <a:latin typeface="Arial"/>
              </a:rPr>
              <a:t>KÖRNYEZETVÉDELMI AL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0099"/>
                </a:solidFill>
                <a:latin typeface="Arial"/>
              </a:rPr>
              <a:t>                                                  </a:t>
            </a:r>
            <a:r>
              <a:rPr b="1" lang="hu-HU" sz="2000" spc="-1" strike="noStrike">
                <a:solidFill>
                  <a:srgbClr val="330099"/>
                </a:solidFill>
                <a:latin typeface="Arial"/>
              </a:rPr>
              <a:t>CÉLELŐIRÁNYZAT (KA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balmagy" descr=""/>
          <p:cNvPicPr/>
          <p:nvPr/>
        </p:nvPicPr>
        <p:blipFill>
          <a:blip r:embed="rId1"/>
          <a:stretch/>
        </p:blipFill>
        <p:spPr>
          <a:xfrm>
            <a:off x="685800" y="5105520"/>
            <a:ext cx="1981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rmészetes radioaktivitás vízbe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03520" y="3198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balterv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842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sterséges radionuklidok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ktivitás-koncentrációja vízb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9" name="balmesv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51032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színi vizek aktivitás-koncentráció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1752480"/>
          <a:ext cx="80773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8077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Összes-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és </a:t>
            </a:r>
            <a:r>
              <a:rPr b="1" lang="hu-HU" sz="2800" spc="-1" strike="noStrike" baseline="30000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 aktivitás-koncentrációk szedimentb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4" name="balszössz" descr=""/>
          <p:cNvPicPr/>
          <p:nvPr/>
        </p:nvPicPr>
        <p:blipFill>
          <a:blip r:embed="rId1"/>
          <a:stretch/>
        </p:blipFill>
        <p:spPr>
          <a:xfrm>
            <a:off x="782640" y="1828800"/>
            <a:ext cx="820908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rmészetes radioaktivitás szedimentbe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6" name="balszter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1007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sterséges radionuklidok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ktivitás-koncentrációja szedimentb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8" name="balszmest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262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sterséges radionuklidok megoszlási hányados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76520" y="3581280"/>
          <a:ext cx="6076800" cy="217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81280"/>
                    <a:ext cx="6076800" cy="2171880"/>
                  </a:xfrm>
                  <a:prstGeom prst="rect">
                    <a:avLst/>
                  </a:prstGeom>
                  <a:ln w="9360">
                    <a:solidFill>
                      <a:srgbClr val="33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K</a:t>
            </a:r>
            <a:r>
              <a:rPr b="1" lang="hu-HU" sz="2800" spc="-1" strike="noStrike" baseline="-25000">
                <a:solidFill>
                  <a:srgbClr val="330099"/>
                </a:solidFill>
                <a:latin typeface="Times New Roman"/>
              </a:rPr>
              <a:t>d 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= C</a:t>
            </a:r>
            <a:r>
              <a:rPr b="1" lang="hu-HU" sz="2800" spc="-1" strike="noStrike" baseline="-25000">
                <a:solidFill>
                  <a:srgbClr val="330099"/>
                </a:solidFill>
                <a:latin typeface="Times New Roman"/>
              </a:rPr>
              <a:t>sz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(mBq/kg)</a:t>
            </a:r>
            <a:r>
              <a:rPr b="1" lang="hu-HU" sz="2800" spc="-1" strike="noStrike">
                <a:solidFill>
                  <a:srgbClr val="330099"/>
                </a:solidFill>
                <a:latin typeface="Symbol"/>
                <a:ea typeface="Symbol"/>
              </a:rPr>
              <a:t>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C</a:t>
            </a:r>
            <a:r>
              <a:rPr b="1" lang="hu-HU" sz="2800" spc="-1" strike="noStrike" baseline="-25000">
                <a:solidFill>
                  <a:srgbClr val="330099"/>
                </a:solidFill>
                <a:latin typeface="Times New Roman"/>
              </a:rPr>
              <a:t>v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 (mBq/dm</a:t>
            </a:r>
            <a:r>
              <a:rPr b="1" lang="hu-HU" sz="2800" spc="-1" strike="noStrike" baseline="30000">
                <a:solidFill>
                  <a:srgbClr val="330099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alatoni nád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4" name="balnadossz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4581360" cy="2716200"/>
          </a:xfrm>
          <a:prstGeom prst="rect">
            <a:avLst/>
          </a:prstGeom>
          <a:ln w="0">
            <a:noFill/>
          </a:ln>
        </p:spPr>
      </p:pic>
      <p:pic>
        <p:nvPicPr>
          <p:cNvPr id="165" name="balnadter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706920" cy="2474640"/>
          </a:xfrm>
          <a:prstGeom prst="rect">
            <a:avLst/>
          </a:prstGeom>
          <a:ln w="0">
            <a:noFill/>
          </a:ln>
        </p:spPr>
      </p:pic>
      <p:pic>
        <p:nvPicPr>
          <p:cNvPr id="166" name="balnadmest" descr=""/>
          <p:cNvPicPr/>
          <p:nvPr/>
        </p:nvPicPr>
        <p:blipFill>
          <a:blip r:embed="rId3"/>
          <a:stretch/>
        </p:blipFill>
        <p:spPr>
          <a:xfrm>
            <a:off x="5181480" y="4267080"/>
            <a:ext cx="373248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ülönböző fajta vízinövények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 baseline="30000">
                <a:solidFill>
                  <a:srgbClr val="ffffff"/>
                </a:solidFill>
                <a:latin typeface="Times New Roman"/>
              </a:rPr>
              <a:t>137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s aktivitás-koncentrációj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447920" y="1905120"/>
          <a:ext cx="693396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9339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lakban mért aktivitás-koncentrációk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76520" y="1981080"/>
          <a:ext cx="6286320" cy="436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28632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ALAT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047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47592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Sokirányú hasznosí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idegenforgalom, üdülés, halászat, mezőgazdaság, ip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47592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Vízminő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hidrológiai, fizikai, biológia, kémiai, bakteriológiai jellemző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47592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Radioizotópok alkalmazása  </a:t>
            </a:r>
            <a:r>
              <a:rPr b="1" lang="hu-HU" sz="2400" spc="-1" strike="noStrike">
                <a:solidFill>
                  <a:srgbClr val="330099"/>
                </a:solidFill>
                <a:latin typeface="Symbol"/>
                <a:ea typeface="Symbol"/>
              </a:rPr>
              <a:t>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 radiológiai állap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47592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A vízforrások hasznosítására vonatkozó  minőségi követelményeket, valamint a szennyezés korlátozásait nemzetközi és hazai jogszabályok írják elő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46040"/>
                <a:tab algn="l" pos="1682640"/>
                <a:tab algn="l" pos="2019240"/>
                <a:tab algn="l" pos="2355840"/>
                <a:tab algn="l" pos="2692440"/>
                <a:tab algn="l" pos="3029040"/>
                <a:tab algn="l" pos="3365640"/>
                <a:tab algn="l" pos="3701880"/>
                <a:tab algn="l" pos="4038480"/>
                <a:tab algn="l" pos="4375080"/>
                <a:tab algn="l" pos="4711680"/>
                <a:tab algn="l" pos="5048280"/>
                <a:tab algn="l" pos="5384880"/>
                <a:tab algn="l" pos="5721480"/>
                <a:tab algn="l" pos="6058080"/>
                <a:tab algn="l" pos="6394320"/>
                <a:tab algn="l" pos="6730920"/>
                <a:tab algn="l" pos="7067520"/>
                <a:tab algn="l" pos="7404120"/>
                <a:tab algn="l" pos="774072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ONKLUZIÓ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466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46640" indent="-46656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A Balaton vízében mért aktivitás-koncentrációk álapján és a WHO 1993-as ajánlását alapul véve a Balaton sugáregészségügyi szempontból ivóvíz minőségű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66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6640" indent="-46656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A mesterséges radionuklidok eloszlása a tó egész területén egyenlet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66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6640" indent="-46656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A természetes radionuklidok koncentrációja Hévízi mintákban akár 15-20 szorosa is lehet az átlagértékne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66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6640" indent="-46656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A vízben mérhető mesterséges radionuklidok (</a:t>
            </a:r>
            <a:r>
              <a:rPr b="1" lang="hu-HU" sz="2400" spc="-1" strike="noStrike" baseline="30000">
                <a:solidFill>
                  <a:srgbClr val="330099"/>
                </a:solidFill>
                <a:latin typeface="Times New Roman"/>
              </a:rPr>
              <a:t>90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Sr, </a:t>
            </a:r>
            <a:r>
              <a:rPr b="1" lang="hu-HU" sz="2400" spc="-1" strike="noStrike" baseline="30000">
                <a:solidFill>
                  <a:srgbClr val="330099"/>
                </a:solidFill>
                <a:latin typeface="Times New Roman"/>
              </a:rPr>
              <a:t>137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Cs) aktivitás-koncentrációkat a víz és szediment közötti megoszlási hányadosa határozza me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ÁMOGATÁ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700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Környezetvédelmi és Vízügyi   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Miniszté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Balatoni Halászati Részvénytársas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Közép-Dunántúli Környezetvédelmi 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Felügyelő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JOGI SZABÁLYOZÁ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9525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5716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Az érvényben lévő hazai jogszabályok a felszíni vizekben előforduló radioaktív anyagokra vonatkozó korlátozásokat nem tartalmazn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571680"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Radioaktív anyagokra vonatkozó korlátozások 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a jogi szabályozásban  csak ivóvízre vonatkozó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találhatók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.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81080" y="3962520"/>
          <a:ext cx="573408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62520"/>
                    <a:ext cx="5734080" cy="2514600"/>
                  </a:xfrm>
                  <a:prstGeom prst="rect">
                    <a:avLst/>
                  </a:prstGeom>
                  <a:ln w="9360">
                    <a:solidFill>
                      <a:srgbClr val="cbcbc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ÉLKITŰZÉ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952560" indent="-380880">
              <a:lnSpc>
                <a:spcPct val="80000"/>
              </a:lnSpc>
              <a:spcBef>
                <a:spcPts val="700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A természetes és mesterséges eredetű radionuklidok aktivitás-koncentrációinak meghatározá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380880">
              <a:lnSpc>
                <a:spcPct val="80000"/>
              </a:lnSpc>
              <a:spcBef>
                <a:spcPts val="700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Adatbázis létrehozás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-szennyeződés gyanúja esetén a közvélemény és az idegenforgalomban érdekeltek hiteles tájékoztatása érdekében,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-a további kutatásokho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380880">
              <a:lnSpc>
                <a:spcPct val="80000"/>
              </a:lnSpc>
              <a:spcBef>
                <a:spcPts val="700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Bio-indikátor szervezetek azonosítása amelyek képesek a tó radioaktív szennyeződésének jelzésé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TAVÉTELI HELYEK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1828800"/>
          <a:ext cx="769608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 VIZSGÁLT MINTÁK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808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99"/>
                </a:solidFill>
                <a:latin typeface="Times New Roman"/>
              </a:rPr>
              <a:t>A Balaton teljes ökológiai rendszerének vizsgá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799"/>
              </a:spcBef>
              <a:buClr>
                <a:srgbClr val="33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99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330099"/>
                </a:solidFill>
                <a:latin typeface="Times New Roman"/>
              </a:rPr>
              <a:t>víz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799"/>
              </a:spcBef>
              <a:buClr>
                <a:srgbClr val="33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99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330099"/>
                </a:solidFill>
                <a:latin typeface="Times New Roman"/>
              </a:rPr>
              <a:t>szediment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799"/>
              </a:spcBef>
              <a:buClr>
                <a:srgbClr val="33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99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330099"/>
                </a:solidFill>
                <a:latin typeface="Times New Roman"/>
              </a:rPr>
              <a:t>növények (nád, sás stb.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799"/>
              </a:spcBef>
              <a:buClr>
                <a:srgbClr val="33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99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330099"/>
                </a:solidFill>
                <a:latin typeface="Times New Roman"/>
              </a:rPr>
              <a:t>halak (ragadozó, növényevő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ADIONUKLIDOK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Monitoroz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09720" indent="-666720">
              <a:spcBef>
                <a:spcPts val="601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összes-</a:t>
            </a:r>
            <a:r>
              <a:rPr b="0" lang="hu-HU" sz="2400" spc="-1" strike="noStrike">
                <a:solidFill>
                  <a:srgbClr val="330099"/>
                </a:solidFill>
                <a:latin typeface="Symbol"/>
                <a:ea typeface="Symbol"/>
              </a:rPr>
              <a:t>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 radioaktivitás-koncent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Természetes eredetű radionuklid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09720" indent="-666720"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232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Th-bomlási sorból az </a:t>
            </a: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228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Ac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809720" indent="-666720"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238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U bomlási sorból </a:t>
            </a: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234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Th és </a:t>
            </a: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226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R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809720" indent="-666720"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primordiális </a:t>
            </a: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40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Mesterséges radionuklid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09720" indent="-666720"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H vízbe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809720" indent="-666720"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90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Sr és </a:t>
            </a: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137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ÉRÉSI MÓDSZ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380880">
              <a:spcBef>
                <a:spcPts val="700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Természetes radionuklidok, </a:t>
            </a:r>
            <a:r>
              <a:rPr b="1" lang="hu-HU" sz="2800" spc="-1" strike="noStrike" baseline="30000">
                <a:solidFill>
                  <a:srgbClr val="330099"/>
                </a:solidFill>
                <a:latin typeface="Times New Roman"/>
              </a:rPr>
              <a:t>137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C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330099"/>
                </a:solidFill>
                <a:latin typeface="Times New Roman"/>
              </a:rPr>
              <a:t>fizikai előkészítés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 (bepárlás, szárítás, homogenizálás, hamvasztá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mérés: Gamma-spektrometria  </a:t>
            </a:r>
            <a:r>
              <a:rPr b="0" i="1" lang="hu-HU" sz="2400" spc="-1" strike="noStrike">
                <a:solidFill>
                  <a:srgbClr val="330099"/>
                </a:solidFill>
                <a:latin typeface="Times New Roman"/>
              </a:rPr>
              <a:t>HpGe,det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80880">
              <a:lnSpc>
                <a:spcPct val="70000"/>
              </a:lnSpc>
              <a:spcBef>
                <a:spcPts val="700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baseline="30000">
                <a:solidFill>
                  <a:srgbClr val="330099"/>
                </a:solidFill>
                <a:latin typeface="Times New Roman"/>
              </a:rPr>
              <a:t>40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330099"/>
                </a:solidFill>
                <a:latin typeface="Times New Roman"/>
              </a:rPr>
              <a:t>stabil kálium alapj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mérés:</a:t>
            </a:r>
            <a:r>
              <a:rPr b="0" i="1" lang="hu-HU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Atomabszorpciós spektrofotometria</a:t>
            </a:r>
            <a:r>
              <a:rPr b="0" i="1" lang="hu-HU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baseline="30000">
                <a:solidFill>
                  <a:srgbClr val="330099"/>
                </a:solidFill>
                <a:latin typeface="Times New Roman"/>
              </a:rPr>
              <a:t>90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Sr (</a:t>
            </a:r>
            <a:r>
              <a:rPr b="1" lang="hu-HU" sz="2800" spc="-1" strike="noStrike" baseline="30000">
                <a:solidFill>
                  <a:srgbClr val="330099"/>
                </a:solidFill>
                <a:latin typeface="Times New Roman"/>
              </a:rPr>
              <a:t>90</a:t>
            </a: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baseline="30000">
                <a:solidFill>
                  <a:srgbClr val="330099"/>
                </a:solidFill>
                <a:latin typeface="Times New Roman"/>
              </a:rPr>
              <a:t>	</a:t>
            </a:r>
            <a:r>
              <a:rPr b="0" i="1" lang="hu-HU" sz="2400" spc="-1" strike="noStrike" baseline="30000">
                <a:solidFill>
                  <a:srgbClr val="330099"/>
                </a:solidFill>
                <a:latin typeface="Times New Roman"/>
              </a:rPr>
              <a:t>90</a:t>
            </a:r>
            <a:r>
              <a:rPr b="0" i="1" lang="hu-HU" sz="2400" spc="-1" strike="noStrike">
                <a:solidFill>
                  <a:srgbClr val="330099"/>
                </a:solidFill>
                <a:latin typeface="Times New Roman"/>
              </a:rPr>
              <a:t>Y kémiai elválasztása (TBP-s extrakció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mérés: Alacsonyhátterű béta  mé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99"/>
                </a:solidFill>
                <a:latin typeface="Times New Roman"/>
              </a:rPr>
              <a:t>Tríc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előkészítés: </a:t>
            </a:r>
            <a:r>
              <a:rPr b="0" i="1" lang="hu-HU" sz="2400" spc="-1" strike="noStrike">
                <a:solidFill>
                  <a:srgbClr val="330099"/>
                </a:solidFill>
                <a:latin typeface="Times New Roman"/>
              </a:rPr>
              <a:t>elektrolitikus dúsí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0099"/>
                </a:solidFill>
                <a:latin typeface="Times New Roman"/>
              </a:rPr>
              <a:t>mérés: Folyadékszcintillációs spektrofotomet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Összes-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</a:t>
            </a:r>
            <a:r>
              <a:rPr b="1" lang="hu-HU" sz="3200" spc="-1" strike="noStrike" baseline="30000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 aktivitás-koncentrációk vízbe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baloszzv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7265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4:03:40Z</dcterms:created>
  <dc:creator>Szabó Gyula</dc:creator>
  <dc:description/>
  <dc:language>en-US</dc:language>
  <cp:lastModifiedBy>OSSKI</cp:lastModifiedBy>
  <cp:lastPrinted>2003-04-29T12:07:52Z</cp:lastPrinted>
  <dcterms:modified xsi:type="dcterms:W3CDTF">2003-04-29T12:39:48Z</dcterms:modified>
  <cp:revision>94</cp:revision>
  <dc:subject/>
  <dc:title>No Slide Title</dc:title>
</cp:coreProperties>
</file>